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EBBB-513A-4E80-AE35-CEAEEDAA6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A352-5E7D-4926-9329-EB5EF7203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DA1-0FD4-4F8E-AC7B-1D4EE92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012-F118-44C0-B328-B5197085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614-BBA9-4B21-84E0-BB9E71E0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90B-0DAA-4ED1-947C-0E873BD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F85-4D11-41A4-9428-716DD769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8EB-06DB-4096-89B2-15410D55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5882-A3C8-4D77-BB0A-3F60D5B1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5B9-04F9-4F01-9D6F-D9CBB215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1856-FD65-4B23-BFDF-7C41986B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8181-C65D-49E8-AB02-1B27D06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9859-5925-46A3-8E3E-1BDC78E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FC6-5B43-40F6-88A2-A16DE249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ACAE-9F49-4114-B16E-093491F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6D76-2779-4D4A-B7F7-3EF2690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5FF-4429-4D81-9296-E4552472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368-CB05-4799-9FB2-39EB71E4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78D-E443-4EBA-946D-823E5770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0D5D-7769-4C6F-8893-F41BE155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868B-4BCC-4BB6-8824-B89218B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BA26-41B8-4724-8374-1BC8182C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05DA-A0E4-4811-8A26-489A433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DEC7-0A2E-4ED8-9F1B-295DAFC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D82-63B9-43FC-8872-ACF71538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090C-3E24-46D0-934F-39F62921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BB77-062C-484B-8E56-CF5691A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B2D1-78B1-4480-8D16-DB481C5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5C0D-6858-4F48-A5A1-79889FD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986E-9382-4D78-93A7-6A2BDDA8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A2EF-BF92-49A8-8344-8F4524CD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5DA1-D2FD-4766-B413-C6D9E948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372F-F908-4E8B-A32B-CB459D06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7C3E-F89E-4E61-9CA4-45FF68A4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F661-4D60-4C27-8348-E8192C0B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C55-B5AA-4381-8E9C-7AAA34A3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53E9-C8C3-488E-B0EC-CBC92BC0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B132-4797-4C85-8A45-6352F6E1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36E1-0B16-49AC-92C6-11B5B37D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C1C1-0D3A-453B-9C0B-DC17626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44DB3-CD5D-4831-ABAD-BC2F4A3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BD88-2197-481B-A576-FB5C347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BFB7-9EE4-4F2C-8510-40B2A056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AEFB-56B1-4108-A703-AB212EE4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A9C5-F1D9-4CEA-BD5B-8EA13D4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68C-66C9-43C3-8E6D-390E57A0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148-F9BE-4232-B99F-ACE8834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05C-D74D-41B4-9D84-601259F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E63-3627-4DF8-AD6F-6AEFCFD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3D3-47A3-4B78-971E-0CB16A8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F10C-DB93-4A55-A28B-00975B1DC0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88CE-7927-475C-BE1D-4AE8C6B6564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0FE7-A4AF-4ECD-BE6C-AD9599B433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903-9F13-4075-88BC-92E0966C951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Arial"/>
              </a:rPr>
              <a:t>15. </a:t>
            </a:r>
            <a:r>
              <a:rPr b="1" lang="en-US" sz="4600" spc="-1" strike="noStrike">
                <a:solidFill>
                  <a:srgbClr val="ecec0c"/>
                </a:solidFill>
                <a:latin typeface="Arial"/>
              </a:rPr>
              <a:t> Population Genetic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iochemical characteris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electrophoresis, it has been shown that in hum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% of genes are poly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 of genes are mono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 are found in a heterozygous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omosomal polymorph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hanges in the structure of chromosomes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 not have pathological consequences for the carrier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hang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entromer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Y chrom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presence of satellites on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e sites (exception is fragile X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e inversions (according to some auth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ardy-Weinberg rule is t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undation of population genetic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mathematician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rman physician Weinberg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ther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 allel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allele 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in individuals of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requencies of gene alleles and genotypes in the population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7" name="Picture 35" descr="Image result for hardy weinberg images"/>
          <p:cNvPicPr/>
          <p:nvPr/>
        </p:nvPicPr>
        <p:blipFill>
          <a:blip r:embed="rId1"/>
          <a:stretch/>
        </p:blipFill>
        <p:spPr>
          <a:xfrm>
            <a:off x="2195640" y="1844640"/>
            <a:ext cx="49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 u="sng">
                <a:solidFill>
                  <a:srgbClr val="ff0000"/>
                </a:solidFill>
                <a:uFillTx/>
                <a:latin typeface="Arial"/>
              </a:rPr>
              <a:t>Hardy-Weinberg rule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maintains its genetic structure (equilibrium) when transitioning from one generation to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requency of genotypes in the offspring generation depends on the frequency of gene alleles in the parental gener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6659640" y="260280"/>
            <a:ext cx="1641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quency of heterozygotes (2pq) in the population at equilibriu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0.5 or 5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reater than the frequency of one homozygote, but it is never greater than the sum of homozygotes (2pq ≤ p^2 + q^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when the frequency of allele A (p) is equal to the frequency of allele a (q) (p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for the population to maintain its genetic structure (equilibrium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conditions need to be satisfi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remains in panmix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mu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anmixia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ffers from random 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is the probability that an individual of one sex has a chance of being fertilized by an individual of the other sex in which the observed trait is express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nmixia, in addition to random mating, it is necessary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Each type of crossbreeding produces the same number of off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sex ratio in the population is 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population is infinitely l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two types of deviations from random mating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sortative mating of g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(in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more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(out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less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Assortative mating of ph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a similar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different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the population consistently maintained its genetic structure, there would be no evolution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Evolutionary factors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s that disrupt the genetic structure of a population ar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 and non-systematic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Selection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Mutations, migrations, genetic drift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-systematic evolutionary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opulation is a group of individuals of the same species that inhabit a specific habitat at a specific time and can engage in reproductiv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the favoritism or elimination of genes or genotypes due to differential fertility or differential survival of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reproductive capacity of individuals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daptive value 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reduction in relative reproductive capacity is th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election coefficient (S</a:t>
            </a:r>
            <a:r>
              <a:rPr b="0" lang="sr-Latn-CS" sz="2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dominant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 it acts on both homozygotes and heterozygote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ful dominant gene can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completely penetrant, preventing reproduction of all c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t will be eliminated in that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partially penetrant, preventing reproduction of some individuals (partial selec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inuously maintained in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recessive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acts only on recessive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fferentiate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omozygotes in favor of heterozy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eterozygotes in favor of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against homozygotes in favor of heterozygot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ickle cell anemia, thalassemia, G6PD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 HbS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s-HbA and HbS (has a selective advantage in malaria-endemic reg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against heterozygotes in favor of homozygo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ample: Rh f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     Dd x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1   Dd, Dd, dd,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n the body of Rh-negative mothers, Rh-negative fetuses have a natural selective advant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gration, immigration, and emigratio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sure gen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change in genetic structure depends on the extent of gene flow and the genetic differences between two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changing genes, populations become more similar in their genetic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way for new genes to appear in the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Mutation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m mutations are passed on to offspring from generation to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of conceived zygotes end up as spontaneous ab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of spontaneous abortions occur due to chromosomal aber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 drift - genetic randomnes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637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in the frequency of gene alleles in a population can also be a result of ch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occur in two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creating isol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losing a low-frequency gene allel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oogenesis, a low-frequency allele is randomly distributed in a oocyte and is lost from the popul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populations - inhabitants of a village, a city, a street..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pecies is divided into a large number of natural populations, and the largest population groups ar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human races (Negroids, Caucasoids, and Mongoloi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ace is a group of historically related people with a common gen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includes a smaller or larger number of local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has been assumed that races arose solely due to geographical isolation, and that other factors have influenced them - selection, genetic drif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736560" y="546120"/>
            <a:ext cx="8305920" cy="838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128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orp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tantly 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tinuously interacting with environmental f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hart of Human Population Growth by Region - The Global Education Project"/>
          <p:cNvPicPr/>
          <p:nvPr/>
        </p:nvPicPr>
        <p:blipFill>
          <a:blip r:embed="rId2"/>
          <a:stretch/>
        </p:blipFill>
        <p:spPr>
          <a:xfrm>
            <a:off x="2087640" y="3429000"/>
            <a:ext cx="5508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structure of the population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22050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the genetic structure of the population is a result of adaptation to new environmental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over time, it's called evolutionary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in terms of space, it's called ecological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enetic burden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represent mutations, most commonly recessive ones, that decrease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most well-known genetic burdens is inbr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re are two approaches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 (1958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are the degree of reduction in the adaptive value of the average genotype compared to the best geno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bzhansky (1964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hose adaptive value is below the established average for heterozygotes represent carriers of genetic burd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burdens also exist in humans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2743200"/>
            <a:ext cx="79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, Krou, Miller (1956) - based on data on stillborn children calc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lethal equival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mounts to 2 for gametes, or 4 for zyg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hal equivalent - the presence of one lethal mutation or a group of partially lethal mu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chanism of occurrence of genetic burde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assical theory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ou and Kim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Mutation the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gene loci are in the homozygous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enetic burdens are eliminated from populations by mu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thal mutations decrease the viability of heterozyg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3-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w mutations lead to the occurrence of genetic burd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alanced theory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5000"/>
            <a:ext cx="82296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ene loci in the population are in the heterozygous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mphasis is placed on balanced se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tations are recessive and in the heterozygous state they form combi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breeding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close kinship have a greater number of identical g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inbreeding is calculated by the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=(1/2)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degree of ki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bability that certain genes will be found in a homozygous state, which originate from a common ances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within kinship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sangu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reeding reduces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's experiment (1876) - for 8 generations, the number of offspring decreased by 3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ts - % of sterile crosses 41%, litter size decreased from 7 to 3 offspring, mortality up to 4 weeks 4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rriages within kinship, there is a 40% increased stillbirth rate of children, and the number of children with hereditary malformations is 30%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riage within kinship among first cous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 and colleagues (1956) f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defects are more common by about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births by about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mortality by about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before adulthood is 100%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Greeks, Egyptians, and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Church and laws in some countries allow marriage up to the four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aw allows marriage up to the six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solation may be a reason for increased frequency of marriages within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tructure of the population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hemical characteristic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al polymorp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ree of kinsh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shared gen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y of homozygos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-childr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ygotic tw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s,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ews, nie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us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of aunts and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184464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etermining the frequency of gene alle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termining the allele frequency i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nogenically determined trait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Hardy-Weinberg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dominant allel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MN blood grou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contains 3 blood 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individual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of codominant allel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 number of individuals with M blood typ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M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214200" y="326232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54936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ple allel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ABO blood group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A allele (IA) =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B allele (IB) =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O allele (IO) =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one population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A (IAIA or IA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p^2 + 2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B (IBIB or IB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q^2 + 2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AB (IAIB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2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O (IO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r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ies of multiple allel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uantitative properties -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an be represented on a quantitative sca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widely, so overlapping in expression is observed (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there is no alternative tr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, cholesterol level, blood pressure, skin colo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achiev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a cumulativ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kin color - AAbb: darkest black, aabb: lightest white, AaBB, AABb: black, AaBb: mulatto, Aabb, aaBb: w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Qualitative properti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not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i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system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ur cou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Eur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</a:t>
            </a:r>
            <a:r>
              <a:rPr b="1" i="1" lang="en-US" sz="2800" spc="-1" strike="noStrike">
                <a:solidFill>
                  <a:srgbClr val="0000ff"/>
                </a:solidFill>
                <a:latin typeface="Arial Narrow"/>
              </a:rPr>
              <a:t>bloo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bia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nce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ot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e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requency of genetic allels also varie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lbi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 Islands - 8.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ego-Congo Tribe -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s and Americans -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s - 0.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 - 0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 -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n Aborigines -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kimos - 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-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s -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s -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esians and Africans - 2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- 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s from Brazil -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Microsoft Office User</cp:lastModifiedBy>
  <dcterms:modified xsi:type="dcterms:W3CDTF">2025-02-05T11:22:00Z</dcterms:modified>
  <cp:revision>197</cp:revision>
  <dc:subject/>
  <dc:title>MUTACIJE GENA</dc:title>
</cp:coreProperties>
</file>