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759F-9DEE-45D9-9A6E-21E52DC26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D968-1226-434E-800C-21D097C639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FE0-C254-4978-9BFE-9FC2D5D7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FDA-EFD0-4B66-980F-BC2DC87D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300-3BA5-46D0-982E-19D7A995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FBE-AB77-4AB8-94C3-C11CFD54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601E-8C29-4777-AAD7-5AA97DFD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2CE5-5067-408E-A45F-6079B80A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AB68-33CD-4086-995C-604F1DDD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E7E4-36B7-41B1-8A98-F01461DF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5D45-F84A-4110-99E8-32C0830E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C959-2480-429F-B372-B838D69A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6699-2F0A-4967-9DE7-268033A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677-6DA3-4BE2-A8ED-5FD10DF7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D3AF-01F2-414A-B5E9-DBE065A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3DB7-1F9B-45E2-B9A3-CDA3528E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AB46-D5E3-44AC-BDA8-4DC664BB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376B-6566-4A01-830F-CC509479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11B1-D5EA-4C4A-970D-33CD3BEC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08BE-72FD-4C01-A172-47A18E93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A86C3-1693-4704-BCF4-D63FE907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B619-8867-4962-A9D4-7F7F6D0B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242E-8F10-4C15-A607-7DE6C227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7BC4-7DE0-496C-B19B-658C5D9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C0A-EEAC-4E06-9A96-A3774106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9FA0-8200-4180-B024-B7670831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3DEC-AA55-4FB7-B844-2596E5B3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031F-7EE7-4B15-838C-1F8DAF94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A055-9102-4005-A6F2-6BACC4EC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A195-FCEE-4118-9A66-34CA0372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C4D6B-CAA2-4EF2-B292-60AB541F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ACAB-EB43-4AA9-A45B-3B7A74E1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9BF2-553F-48C9-B71D-19FC2D08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3002-E6FF-4798-9E24-0EDB22E4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40987-0EC1-4C2C-B19F-07B39EA3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48D-0E40-426F-A641-409C2707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AA648-1FEE-4A8C-993F-5FEC70D4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1CDE-FEC7-4D64-B2CF-7F19335C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97FF-1AC3-4809-8166-130B2F0C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D6E6E-5041-4F10-9852-3C4AE5EA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6A2A-C07E-4446-894C-B2FB1B8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F0EB6-6192-4C8F-8F47-08D35186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6E82-6773-4537-BE29-89B2437D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B3E03-FA70-4299-8DA6-ACF1C952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E770E-CFE6-403F-A4D2-AF802EA0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7B0-FD65-4373-91AC-963F97EB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F54-FF05-4817-91C4-0791CD40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4DF-45F3-44F3-AB3D-60ABE80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916-C54D-49F9-9E48-F117E405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756-C4D7-4D92-9D57-3234B9EC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DFC5-E1DC-4B8E-B3B5-DD136ED0BD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10A1-D7C6-4213-9C9D-08E3CB84BD0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65C9-ECA6-48BA-982D-97A6FF2D4EE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A888-8269-44B4-A0E4-B273225863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PULATION GENETIC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Arial"/>
              </a:rPr>
              <a:t>ABO system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1884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our coun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A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-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-1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B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756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n Euro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ff"/>
                </a:solidFill>
                <a:latin typeface="Arial Narrow"/>
              </a:rPr>
              <a:t>А </a:t>
            </a:r>
            <a:r>
              <a:rPr b="1" i="1" lang="en-US" sz="2800" spc="-1" strike="noStrike">
                <a:solidFill>
                  <a:srgbClr val="0000ff"/>
                </a:solidFill>
                <a:latin typeface="Arial Narrow"/>
              </a:rPr>
              <a:t>bloo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bia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ance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30-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g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25-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ot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 20-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e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15-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Quantitative vs Qualitative - Tales from the Genome - YouTube"/>
          <p:cNvPicPr/>
          <p:nvPr/>
        </p:nvPicPr>
        <p:blipFill>
          <a:blip r:embed="rId1"/>
          <a:stretch/>
        </p:blipFill>
        <p:spPr>
          <a:xfrm>
            <a:off x="1619280" y="2133720"/>
            <a:ext cx="5456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iochemical characteristic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electrophoresis, it has been shown that in hum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% of genes are poly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% of genes are mono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7% are found in a heterozygous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omosomal polymorphism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hanges in the structure of chromosomes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 not have pathological consequences for the carrier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hange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the centromere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Y chromo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and presence of satellites on acrocentric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ile sites (exception is fragile X syndr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osome inversions (according to some auth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95868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ardy-Weinberg rule is th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undation of population genetic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4000" y="24681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mathematician Hardy and German physician Weinberg (19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ther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 allel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 allele 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ly in individuals of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5600" spc="-1" strike="noStrike">
              <a:solidFill>
                <a:srgbClr val="4ce4a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Chapter 25 Population Genetics Flashcards | Quizlet"/>
          <p:cNvPicPr/>
          <p:nvPr/>
        </p:nvPicPr>
        <p:blipFill>
          <a:blip r:embed="rId1"/>
          <a:srcRect l="0" t="0" r="0" b="5919"/>
          <a:stretch/>
        </p:blipFill>
        <p:spPr>
          <a:xfrm>
            <a:off x="766800" y="623880"/>
            <a:ext cx="729936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requencies of gene alleles and genotypes in the population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27" name="Picture 35" descr="Image result for hardy weinberg images"/>
          <p:cNvPicPr/>
          <p:nvPr/>
        </p:nvPicPr>
        <p:blipFill>
          <a:blip r:embed="rId1"/>
          <a:stretch/>
        </p:blipFill>
        <p:spPr>
          <a:xfrm>
            <a:off x="2125800" y="2637000"/>
            <a:ext cx="496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595080"/>
            <a:ext cx="5904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Arial"/>
              </a:rPr>
              <a:t>Hardy-Weinberg rul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773000"/>
            <a:ext cx="86421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АА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2pq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Latn-C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 (100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р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maintains its genetic structure (equilibrium) when transitioning from one generation to anoth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requency of genotypes in the offspring generation depends on the frequency of gene alleles in the parental gener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7516800" y="0"/>
            <a:ext cx="16416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54720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requency of heterozygotes (2pq) in the population at equilibrium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920" y="2060280"/>
            <a:ext cx="44654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0.5 or 5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greater than the frequency of one homozygote, but it is never greater than the sum of homozygotes (2pq ≤ p^2 + q^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when the frequency of allele A (p) is equal to the frequency of allele a (q) (p=q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5148360" y="2276640"/>
            <a:ext cx="3914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for the population to maintain its genetic structure (equilibrium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2492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llowing conditions need to be satisfie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no mi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remains in panmix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no mut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965160" y="698400"/>
            <a:ext cx="7785000" cy="9781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26920" y="2001960"/>
            <a:ext cx="7126560" cy="194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Population genetics is the study of the </a:t>
            </a: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genetic composition (diversity) of populations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, including distributions and changes in genotype and phenotype frequency in response to the processes of natural selection, genetic drift, mutation and gene flow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Population Genetics: When Darwin Met Mendel Crash Course Biology #18 |  Population Genetics And Evolution | onad.gov.cv"/>
          <p:cNvPicPr/>
          <p:nvPr/>
        </p:nvPicPr>
        <p:blipFill>
          <a:blip r:embed="rId2"/>
          <a:stretch/>
        </p:blipFill>
        <p:spPr>
          <a:xfrm>
            <a:off x="971640" y="3784680"/>
            <a:ext cx="4051080" cy="3038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Applications Of Population Genetics In Agriculture And Medicine -  FasterCapital"/>
          <p:cNvPicPr/>
          <p:nvPr/>
        </p:nvPicPr>
        <p:blipFill>
          <a:blip r:embed="rId3"/>
          <a:srcRect l="0" t="12306" r="0" b="0"/>
          <a:stretch/>
        </p:blipFill>
        <p:spPr>
          <a:xfrm>
            <a:off x="5180040" y="4653000"/>
            <a:ext cx="32814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anmixia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iffers from random m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mating is the probability that an individual of one sex has a chance of being fertilized by an individual of the other sex in which the observed trait is expressed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nmixia, in addition to random mating, it is necessary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Each type of crossbreeding produces the same number of offsp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sex ratio in the population is 1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population is infinitely lar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are two types of deviations from random mating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ssortative mating of g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(in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more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(out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less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Assortative mating of ph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a similar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different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population consistently maintained its genetic structure, there would be no evolution.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3320" y="263700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Evolutionary factors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ors that disrupt the genetic structure of a population are: 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systematic and non-systematic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Selection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Mutations, migrations, genetic drift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n-systematic evolutionary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the favoritism or elimination of genes or genotypes due to differential fertility or differential survival of individ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reproductive capacity of individuals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adaptive value (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of reduction in relative reproductive capacity is th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selection coefficient (S</a:t>
            </a:r>
            <a:r>
              <a:rPr b="0" lang="sr-Latn-CS" sz="2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W+S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dominant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4920" y="2060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fast because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it acts on both homozygotes and heterozygotes simultaneous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ful dominant gene can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completely penetrant, preventing reproduction of all carr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t will be eliminated in that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partially penetrant, preventing reproduction of some individuals (partial selec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ontinuously maintained in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recessive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low 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 acts only on recessive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fferentiate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omozygotes in favor of heterozyg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eterozygotes in favor of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on against homozygotes in favor of heterozygote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ickle cell anemia, thalassemia, G6PD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 HbS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H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s-HbA and HbS (has a selective advantage in malaria-endemic reg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against heterozygotes in favor of homozygot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565000"/>
            <a:ext cx="87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Rh fac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     Dd x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1   Dd, Dd, dd,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 the body of Rh-negative mothers, Rh-negative fetuses have a natural selective advant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7280" y="53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gration, immigration, and emigratio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34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ensure gene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change in genetic structure depends on the extent of gene flow and the genetic differences between two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xchanging genes, populations become more similar in their genetic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way for new genes to appear in the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Mutations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2060280"/>
            <a:ext cx="8445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rm mutations are passed on to offspring from generation to gen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-20% of conceived zygotes end up as spontaneous ab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% of spontaneous abortions occur due to chromosomal aber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546120" y="1054080"/>
            <a:ext cx="7785000" cy="952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2205000"/>
            <a:ext cx="7772400" cy="209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2529"/>
                </a:solidFill>
                <a:latin typeface="Open Sans"/>
              </a:rPr>
              <a:t>Population</a:t>
            </a:r>
            <a:r>
              <a:rPr b="0" lang="en-US" sz="2200" spc="-1" strike="noStrike">
                <a:solidFill>
                  <a:srgbClr val="212529"/>
                </a:solidFill>
                <a:latin typeface="Open Sans"/>
              </a:rPr>
              <a:t>: group of individuals of one species, living in a prescribed geographical are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2529"/>
                </a:solidFill>
                <a:latin typeface="Open Sans"/>
              </a:rPr>
              <a:t>Subpopulation</a:t>
            </a:r>
            <a:r>
              <a:rPr b="0" lang="en-US" sz="2200" spc="-1" strike="noStrike">
                <a:solidFill>
                  <a:srgbClr val="212529"/>
                </a:solidFill>
                <a:latin typeface="Open Sans"/>
              </a:rPr>
              <a:t>: localized, distinct breeding grou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2529"/>
                </a:solidFill>
                <a:latin typeface="Open Sans"/>
              </a:rPr>
              <a:t>Gene pool</a:t>
            </a:r>
            <a:r>
              <a:rPr b="0" lang="en-US" sz="2200" spc="-1" strike="noStrike">
                <a:solidFill>
                  <a:srgbClr val="212529"/>
                </a:solidFill>
                <a:latin typeface="Open Sans"/>
              </a:rPr>
              <a:t>: collection of all gene forms (alleles) in a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population genetics genotype versus gene pool vector infographic 35209893  Vector Art at Vecteezy"/>
          <p:cNvPicPr/>
          <p:nvPr/>
        </p:nvPicPr>
        <p:blipFill>
          <a:blip r:embed="rId2"/>
          <a:stretch/>
        </p:blipFill>
        <p:spPr>
          <a:xfrm>
            <a:off x="1908000" y="4141800"/>
            <a:ext cx="4788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netic drift – random genetic drift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846080"/>
            <a:ext cx="8424720" cy="41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in the frequency of gene alleles in a population can also be a result of ch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occur in two way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creating isol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losing a low-frequency gene allel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in oogenesis, a low-frequency allele is randomly distributed in a oocyte and is lost from the popul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populations - inhabitants of a village, a city, a street..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280" y="1915920"/>
            <a:ext cx="8066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pecies is divided into a large number of natural populations, and the largest population groups ar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human races (Negroids, Caucasoids, and Mongoloi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race is a group of historically related people with a common gen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 includes a smaller or larger number of local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has been assumed that races arose solely due to geographical isolation, and that other factors have influenced them - selection, genetic drif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520560" y="1371600"/>
            <a:ext cx="7874280" cy="18795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68000" y="3645000"/>
            <a:ext cx="78534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457200" indent="-457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polymorph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constantly mov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continuously interacting with environmental facto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enetic burden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represent mutations, most commonly recessive ones, that decrease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most well-known genetic burdens is inbr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re are two approaches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8920" y="193500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rou (1958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are the degree of reduction in the adaptive value of the average genotype compared to the best geno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bzhansky (1964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whose adaptive value is below the established average for heterozygotes represent carriers of genetic burd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breeding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400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in close kinship have a greater number of identical g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 of inbreeding is calculated by the formu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=(1/2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- degree of kinshi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bability that certain genes will be found in a homozygous state, which originate from a common ances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within kinship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consangui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1136160"/>
            <a:ext cx="54882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280" y="1484280"/>
            <a:ext cx="826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reeding reduces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's experiment (1876) - for 8 generations, the number of offspring decreased by 3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ts - % of sterile crosses 41%, litter size decreased from 7 to 3 offspring, mortality up to 4 weeks 4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rriages within kinship, there is a 40% increased stillbirth rate of children, and the number of children with hereditary malformations is 30% hig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riage within kinship among first cousi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4000" y="2708280"/>
            <a:ext cx="79261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n and colleagues (1956) f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nital defects are more common by about 4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births by about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natal mortality by about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before adulthood is 100% hig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ent Greeks, Egyptians, and J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holic Church and laws in some countries allow marriage up to the four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law allows marriage up to the six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isolation may be a reason for increased frequency of marriages within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pulation is a group of individuals of the same species that inhabit a specific habitat at a specific time and can engage in reproductive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Population genetics | Broad Institute"/>
          <p:cNvPicPr/>
          <p:nvPr/>
        </p:nvPicPr>
        <p:blipFill>
          <a:blip r:embed="rId1"/>
          <a:stretch/>
        </p:blipFill>
        <p:spPr>
          <a:xfrm>
            <a:off x="3062160" y="4292640"/>
            <a:ext cx="30196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gree of kinshi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shared gen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ty of homozygos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s-childr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ygotic tw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nts,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hews, nie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us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of aunts and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ing the allele frequency i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nogenically determined trait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8920" y="2421000"/>
            <a:ext cx="8697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 Hardy-Weinberg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) + 2pq (Aa) + q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 + q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codominant alleles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the MN blood grou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contains 3 blood 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3080" y="2997360"/>
          <a:ext cx="9070920" cy="3247920"/>
        </p:xfrm>
        <a:graphic>
          <a:graphicData uri="http://schemas.openxmlformats.org/drawingml/2006/table">
            <a:tbl>
              <a:tblPr/>
              <a:tblGrid>
                <a:gridCol w="2266920"/>
                <a:gridCol w="1643040"/>
                <a:gridCol w="1630440"/>
                <a:gridCol w="1631880"/>
                <a:gridCol w="1898640"/>
              </a:tblGrid>
              <a:tr h="92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h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 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individual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4"/>
          <p:cNvSpPr/>
          <p:nvPr/>
        </p:nvSpPr>
        <p:spPr>
          <a:xfrm>
            <a:off x="255600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+ B + C = 1 (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quency of codominant allel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79280" y="1600200"/>
            <a:ext cx="89647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sr-C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 number of individuals with M blood typ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M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C + 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m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1568520" y="251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531800" y="4237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50920" y="1773360"/>
            <a:ext cx="3240000" cy="136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246240" y="3203640"/>
            <a:ext cx="3313080" cy="1584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multiple alleles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BO blood group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A allele (IA) =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 allele (IB) = 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O allele (IO) = 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 + q  + r = 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520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 one population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8920" y="2492280"/>
            <a:ext cx="8425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А + АО 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B + BO + AB +O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%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 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B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B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O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p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q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07960" y="203688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A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^2 + 2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B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q^2 + 2q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AB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2p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O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r^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9760" y="549000"/>
            <a:ext cx="848988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quencies of multiple allel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, p, q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1588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= √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B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169236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2035080" y="198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371628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276372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3817800" y="5084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2809800" y="506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"/>
          <p:cNvSpPr/>
          <p:nvPr/>
        </p:nvSpPr>
        <p:spPr>
          <a:xfrm>
            <a:off x="2492280" y="3500280"/>
            <a:ext cx="21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2606760" y="4927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structure of the population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9520" y="2276640"/>
            <a:ext cx="842472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nge in the genetic structure of the population is a result of adaptation to new environmental 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over time, it's called evolutionary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in terms of space, it's called ecological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structure of the population 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chemical characteristic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al polymorph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7487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antitative properties -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be represented on a quantitative scal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enic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expression is influenced by environment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vary widely, so overlapping in expression is observed (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re is no alternative trait, can take on any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weight, cholesterol level, blood pressure, skin colo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Qualitative and Quantitative traits - ppt video online download"/>
          <p:cNvPicPr/>
          <p:nvPr/>
        </p:nvPicPr>
        <p:blipFill>
          <a:blip r:embed="rId1"/>
          <a:srcRect l="22110" t="35742" r="23097" b="13071"/>
          <a:stretch/>
        </p:blipFill>
        <p:spPr>
          <a:xfrm>
            <a:off x="2916360" y="5140440"/>
            <a:ext cx="24476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achieve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a cumulative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kin color - AAbb: darkest black, aabb: lightest white, AaBB, AABb: black, AaBb: mulatto, Aabb, aaBb: w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Qualitative propertie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genic traits are determ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xpression is not influenced by 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vary in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N, AB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Microsoft Office User</cp:lastModifiedBy>
  <dcterms:modified xsi:type="dcterms:W3CDTF">2024-06-05T08:01:23Z</dcterms:modified>
  <cp:revision>200</cp:revision>
  <dc:subject/>
  <dc:title>MUTACIJE GENA</dc:title>
</cp:coreProperties>
</file>